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31A-8ECC-4D65-907F-828007E7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72D-9845-47A0-9DBE-598EABA7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9A4-AE3C-4BBB-8B5D-5264EF98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E40-0AAE-4336-B644-861EA8F3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84C-C616-47FC-976C-69C4A856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B65A-4C7A-4BCA-994A-2B0B558E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8E0-E3C6-46C7-95CF-20A41839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30D-15F1-4E56-A058-1AFE0747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B3D-EB82-49A2-9D8E-AB7402C9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C1D7-603C-4F86-944C-E393F69C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D34-E5E5-48E7-8976-9EFC713E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7BFF-8942-4DFE-A06F-E19D4FA5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757A-B0C3-40D2-B421-1C68AA7ECB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emyss League"/>
          <p:cNvPicPr/>
          <p:nvPr/>
        </p:nvPicPr>
        <p:blipFill>
          <a:blip r:embed="rId1"/>
          <a:stretch/>
        </p:blipFill>
        <p:spPr>
          <a:xfrm>
            <a:off x="3381480" y="2286000"/>
            <a:ext cx="1042920" cy="1023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0" y="1571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HMIGLO                 STRATHMIGLO  100TH              WINDYGATES  DURIEVALE                     WINDYGATES                           WINDYGATES                               WORM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800520" y="0"/>
            <a:ext cx="25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7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Wormit 100th"/>
          <p:cNvPicPr/>
          <p:nvPr/>
        </p:nvPicPr>
        <p:blipFill>
          <a:blip r:embed="rId2"/>
          <a:stretch/>
        </p:blipFill>
        <p:spPr>
          <a:xfrm>
            <a:off x="309600" y="228600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East Fife Assoc"/>
          <p:cNvPicPr/>
          <p:nvPr/>
        </p:nvPicPr>
        <p:blipFill>
          <a:blip r:embed="rId3"/>
          <a:stretch/>
        </p:blipFill>
        <p:spPr>
          <a:xfrm>
            <a:off x="1738440" y="228600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Wormit 1"/>
          <p:cNvPicPr/>
          <p:nvPr/>
        </p:nvPicPr>
        <p:blipFill>
          <a:blip r:embed="rId4"/>
          <a:stretch/>
        </p:blipFill>
        <p:spPr>
          <a:xfrm>
            <a:off x="7738920" y="50004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St"/>
          <p:cNvPicPr/>
          <p:nvPr/>
        </p:nvPicPr>
        <p:blipFill>
          <a:blip r:embed="rId5"/>
          <a:stretch/>
        </p:blipFill>
        <p:spPr>
          <a:xfrm>
            <a:off x="4667400" y="1857240"/>
            <a:ext cx="1590480" cy="1452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Windygates 3"/>
          <p:cNvPicPr/>
          <p:nvPr/>
        </p:nvPicPr>
        <p:blipFill>
          <a:blip r:embed="rId6"/>
          <a:stretch/>
        </p:blipFill>
        <p:spPr>
          <a:xfrm>
            <a:off x="6310440" y="214200"/>
            <a:ext cx="1206360" cy="136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Windygates 2"/>
          <p:cNvPicPr/>
          <p:nvPr/>
        </p:nvPicPr>
        <p:blipFill>
          <a:blip r:embed="rId7"/>
          <a:stretch/>
        </p:blipFill>
        <p:spPr>
          <a:xfrm>
            <a:off x="4809960" y="214200"/>
            <a:ext cx="1189080" cy="1413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6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ORMIT  100TH                     EAST  FIFE  LEAGUE                        WEMYSS  LEAGUE                ST.  ANDREWS  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Strathmiglo 100th.JPG"/>
          <p:cNvPicPr/>
          <p:nvPr/>
        </p:nvPicPr>
        <p:blipFill>
          <a:blip r:embed="rId8"/>
          <a:stretch/>
        </p:blipFill>
        <p:spPr>
          <a:xfrm>
            <a:off x="1666800" y="428760"/>
            <a:ext cx="12258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Windygates 1.JPG"/>
          <p:cNvPicPr/>
          <p:nvPr/>
        </p:nvPicPr>
        <p:blipFill>
          <a:blip r:embed="rId9"/>
          <a:stretch/>
        </p:blipFill>
        <p:spPr>
          <a:xfrm>
            <a:off x="3309840" y="35712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8" descr="Strathmiglo 1"/>
          <p:cNvPicPr/>
          <p:nvPr/>
        </p:nvPicPr>
        <p:blipFill>
          <a:blip r:embed="rId10"/>
          <a:stretch/>
        </p:blipFill>
        <p:spPr>
          <a:xfrm>
            <a:off x="380880" y="285840"/>
            <a:ext cx="8953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14:22:55Z</dcterms:created>
  <dc:creator>HP authorized customer</dc:creator>
  <dc:description/>
  <dc:language>en-US</dc:language>
  <cp:lastModifiedBy>John</cp:lastModifiedBy>
  <dcterms:modified xsi:type="dcterms:W3CDTF">2008-08-06T15:19:09Z</dcterms:modified>
  <cp:revision>12</cp:revision>
  <dc:subject/>
  <dc:title>Slide 1</dc:title>
</cp:coreProperties>
</file>